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01C9-1C12-4C3C-8994-4CC79464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BD5-0DDB-4DC9-A95E-F8CAE4D1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EF38-B855-40D0-931E-D23AE51A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2FEE-8DE4-43F9-AF84-263F12F3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519-8314-42BB-A9C0-36AAB696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8F84-4781-4F93-B27B-FCB5EBA7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74E-1E60-4002-9F1A-7ECAB344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A95-826A-43E9-8367-A42A8CAF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633E-0092-4399-A75E-B9BB9CDA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9FE-7873-4AD2-AB2F-D220BDF5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8F5-AA0D-405C-BFE3-5B72DF7E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50FD-400A-4FDA-A858-B791AF39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FC2-9DAA-4E62-B843-34194C32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3E71-FBD2-498B-B6E8-A0C190C9D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0559-5D0F-45F2-8442-52922304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E853-EF5E-43EC-81DC-7333C2D4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173-FD09-4934-BA84-C14D8E42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DFD-D4B7-49B3-BA62-14E815D2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34A-78BF-4E0C-A20C-CCDD8FA5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D90-AFC3-4149-9D5E-B5301C29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93E-989D-4E75-A494-AD7DE824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AAB-0622-471D-BE2A-A5FEB60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4C5-BF73-4527-A30D-E7172990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40C-A332-4493-BFC5-06F4821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677-4C81-4F10-B777-AFA8115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C4D-4379-4C19-AA7E-493B15C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9D7-0254-4651-B1C9-8E183B8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B85-DE56-4E3F-A853-8267D98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189000"/>
            <a:ext cx="7345080" cy="50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020600"/>
            <a:ext cx="6845400" cy="55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2B1D-7A5C-47EE-8CFE-0A88988C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189000"/>
            <a:ext cx="611280" cy="503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189000"/>
            <a:ext cx="129528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4920" y="1700280"/>
            <a:ext cx="8435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alsts probācijas dienesta individuālais projekts Nr.LV0024</a:t>
            </a: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“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Latvijas probācijas un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lodzījumu vietu sistēmas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ersonāla kapacitātes celšana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”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ļa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1 Darbs ar dažādu mērķa grupu klientiem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1 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s ar personām ar garīgas veselības traucē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2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dzimumnoziedzniek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3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 personām ar atkarības problēm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4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nepilngadīgu likumpārkāpēj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5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klientu ar īpašām vajadzīb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6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etniskajām, reliģiskajām, seksuālajām un citām minoritātē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7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dezadaptēt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8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agresīv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2 Darba metode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Motivējošā intervē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Krīzes intervence – īsterapija vērsta uz atrisinājumu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3 Prasmju pilnveidošana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ārstāvības process ties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aika plāno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3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ašpalīdzība, stresa un konflikta vadīb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4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Grupu vadības pamat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8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 Probācijas programma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1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Emociju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2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Cieņpilnu attiecību veidošana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lu lietošanas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4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darbam ar dzimumnoziedzniekiem (brīvības atņemšanas ietādē)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5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Motivācija izmaiņām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6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EQUIP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7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nkārši par sarežģīto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8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Dzīves skola 2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907920"/>
          <a:ext cx="8240760" cy="5218200"/>
        </p:xfrm>
        <a:graphic>
          <a:graphicData uri="http://schemas.openxmlformats.org/drawingml/2006/table">
            <a:tbl>
              <a:tblPr/>
              <a:tblGrid>
                <a:gridCol w="1830240"/>
                <a:gridCol w="920880"/>
                <a:gridCol w="1830240"/>
                <a:gridCol w="1828800"/>
                <a:gridCol w="1830600"/>
              </a:tblGrid>
              <a:tr h="61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gūstamā kvalifik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ļu kombin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zīm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odul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Piespiedu un sabiedriskā darba izpildes organizator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 (PD+S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76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Izlīguma veicē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(IZL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0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Izvērtēšanas ziņojumu sagatav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 (IZ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8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Uzraudzības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 (UZR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21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Probācijas programmu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6 (PP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vismaz vienu kursu no C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gūstama pēc uzraudzības īstenotāja kvalifikācijas iegūšan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4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visi jaunpieņemtie darbinieki ne ilgāk kā divu mēnešu laikā no darba uzsākšanas datum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darbinieki, kuri sekmīgi nokārtojuši A moduļa mācību priekšmetu pārbaudījumus un saskaņā ar veicamo funkciju, ne vēlāk kā divu mēnešu laikā pēc A moduļa mācību priekšmetu apgūšan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iekšmets </a:t>
            </a: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(„Probācijas programmu īstenošana”) apgūstams pēc B5 mācību priekšmeta („Uzraudzības īstenošana”) pārbaudījuma sekmīgas nokārtošanas un ne ātrāk kā pēc sešiem mēnešiem no darba uzsākšanas datuma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lis</a:t>
            </a:r>
            <a:r>
              <a:rPr b="1" lang="en-US" sz="24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mācību priekšmeti, kas nav noteikti kā obligātie iepriekšminētajā tabulā, apgūstami saskaņā ar tiešā vadītāja pieteikumu bez laika ierobežo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ldies par uzmanību!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ts probācijas dienesta mi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ūpēties par sabiedrības drošī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nākt noturīgas izmaiņas likumpārkāpēju dzīvēs, lai viņi vairs neizdara noziegumu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sargāt iespējamos upurus, ja paaugstinās nozieguma izdarīšanas risk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ā to panāk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odrošinot Valsts probācijas dienesta likumā noteikto funkciju </a:t>
            </a: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valitatīvu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izpildi - kvalitatīvi veicot  uzticēto dar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ozīmē kvalitatīva izpil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inieks strādā profesionāli!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pēj nodrošināt savā darbā gan teorētisko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(zināšanas), gan praktisko (prasmes) pieeju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fesionāls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inieks ir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kvalitatīvi sagatavots un apmācīts darbam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ņemot vērā: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tādes darba specifiku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žādas mērķa grupas (klientu kategorijas)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epieciešamās zināšanas un prasmes katras funkcijas ietvaros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n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spēj iegūtās zināšanas un prasmes pielietot </a:t>
            </a:r>
            <a:r>
              <a:rPr b="1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praksē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jot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pieredzi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mērķ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glītības procesa rezultātā sagatavot kvalificētu probācijas darba speciālistu Valsts probācijas dienesta funkciju īstenošanai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7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uzdevum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eidot izpratni par probācijas sistēmas izveidošanos un attīstību, probācijas lomu Latvijas kriminālsodu sistēmā un probācijas darbinieka vispārējo kompetenc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niegt zināšanas un attīstīt prasmes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t profesionālo kompetenci, paaugstinot kvalifikāciju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agatavot darbinieku teorētisko zināšanu pielietošanai praksē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ogramma tiek veidota pēc moduļu sistēmas, kas sastāv no: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ļ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1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Valsts probācijas dienesta darbība, misija, loma un vieta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2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Uz pierādījumiem balstīta pieeja darbā ar likumpārkāpēju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3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inieka tiesības, pienākumi un profesionālā ētik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4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Uz klientu orientēta saskarsm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5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a drošība darbā ar probācijas klient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tu sistēmu izmantošana darb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7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ietvedība 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moduļa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1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riminālsoda – piespiedu darbs un audzinoša rakstura piespiedu līdzekļa – sabiedriskais darbs – izpildes organizē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2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līguma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3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iska un vajadzību novērtēšana (pieaugušajiem)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4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vērtēšanas ziņojuma sagatav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5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zraudzības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bācijas programmu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rina.Purite</cp:lastModifiedBy>
  <dcterms:modified xsi:type="dcterms:W3CDTF">2010-12-13T12:59:02Z</dcterms:modified>
  <cp:revision>76</cp:revision>
  <dc:subject/>
  <dc:title>Slide 1</dc:title>
</cp:coreProperties>
</file>